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jpeg" ContentType="image/jpeg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2F67-6F5C-41F5-BC46-D40FC665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3078-0372-4235-8252-F74722F1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B542-03DB-485E-B817-E3EE8DEB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E0D6-B36A-47CE-BC4C-007EC2255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6FF4-7CDC-42C7-A5BC-F06747AC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F516-7F70-4492-9416-09F120E2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DB38-ED16-4057-BD08-7CD9E877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82DE-4DD0-48A4-BA7F-A6FC64F7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7AE3-5208-4E2E-B583-CAD9E0A8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70C1-B0C8-4AD0-82B4-D74C8889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C50A-F4FE-4509-B329-13E0F2E5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1581-2984-4C8B-B924-AFEE8798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DC2E-7C80-4E69-A366-C088F3EE01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трольная работа по теме: «Действия с информацией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b0f0"/>
                </a:solidFill>
                <a:latin typeface="Calibri"/>
              </a:rPr>
              <a:t>Снегопад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Пользователь\Рабочий стол\ТИО 5.12.12\1323442463_animaciya-snezhinka.gif"/>
          <p:cNvPicPr/>
          <p:nvPr/>
        </p:nvPicPr>
        <p:blipFill>
          <a:blip r:embed="rId1"/>
          <a:stretch/>
        </p:blipFill>
        <p:spPr>
          <a:xfrm>
            <a:off x="7643880" y="357120"/>
            <a:ext cx="928800" cy="1238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Documents and Settings\Пользователь\Рабочий стол\ТИО 5.12.12\1323442463_animaciya-snezhinka.gif"/>
          <p:cNvPicPr/>
          <p:nvPr/>
        </p:nvPicPr>
        <p:blipFill>
          <a:blip r:embed="rId2"/>
          <a:stretch/>
        </p:blipFill>
        <p:spPr>
          <a:xfrm>
            <a:off x="7715160" y="4786200"/>
            <a:ext cx="928800" cy="123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Documents and Settings\Пользователь\Рабочий стол\ТИО 5.12.12\1323442463_animaciya-snezhinka.gif"/>
          <p:cNvPicPr/>
          <p:nvPr/>
        </p:nvPicPr>
        <p:blipFill>
          <a:blip r:embed="rId3"/>
          <a:stretch/>
        </p:blipFill>
        <p:spPr>
          <a:xfrm>
            <a:off x="1000080" y="4643280"/>
            <a:ext cx="928800" cy="1238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Documents and Settings\Пользователь\Рабочий стол\ТИО 5.12.12\1323442463_animaciya-snezhinka.gif"/>
          <p:cNvPicPr/>
          <p:nvPr/>
        </p:nvPicPr>
        <p:blipFill>
          <a:blip r:embed="rId4"/>
          <a:stretch/>
        </p:blipFill>
        <p:spPr>
          <a:xfrm>
            <a:off x="285840" y="3143160"/>
            <a:ext cx="928440" cy="1238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Documents and Settings\Пользователь\Рабочий стол\ТИО 5.12.12\1323442463_animaciya-snezhinka.gif"/>
          <p:cNvPicPr/>
          <p:nvPr/>
        </p:nvPicPr>
        <p:blipFill>
          <a:blip r:embed="rId5"/>
          <a:stretch/>
        </p:blipFill>
        <p:spPr>
          <a:xfrm>
            <a:off x="8001000" y="3071880"/>
            <a:ext cx="928800" cy="123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Documents and Settings\Пользователь\Рабочий стол\ТИО 5.12.12\1323442463_animaciya-snezhinka.gif"/>
          <p:cNvPicPr/>
          <p:nvPr/>
        </p:nvPicPr>
        <p:blipFill>
          <a:blip r:embed="rId6"/>
          <a:stretch/>
        </p:blipFill>
        <p:spPr>
          <a:xfrm>
            <a:off x="4714920" y="285840"/>
            <a:ext cx="928800" cy="1238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Documents and Settings\Пользователь\Рабочий стол\ТИО 5.12.12\1323442463_animaciya-snezhinka.gif"/>
          <p:cNvPicPr/>
          <p:nvPr/>
        </p:nvPicPr>
        <p:blipFill>
          <a:blip r:embed="rId7"/>
          <a:stretch/>
        </p:blipFill>
        <p:spPr>
          <a:xfrm>
            <a:off x="571680" y="142920"/>
            <a:ext cx="928440" cy="1238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Пользователь\Рабочий стол\ТИО 5.12.12\1323442463_animaciya-snezhinka.gif"/>
          <p:cNvPicPr/>
          <p:nvPr/>
        </p:nvPicPr>
        <p:blipFill>
          <a:blip r:embed="rId8"/>
          <a:stretch/>
        </p:blipFill>
        <p:spPr>
          <a:xfrm>
            <a:off x="4429080" y="5619600"/>
            <a:ext cx="928800" cy="1238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Пользователь\Рабочий стол\ТИО 5.12.12\1323442463_animaciya-snezhinka.gif"/>
          <p:cNvPicPr/>
          <p:nvPr/>
        </p:nvPicPr>
        <p:blipFill>
          <a:blip r:embed="rId9"/>
          <a:stretch/>
        </p:blipFill>
        <p:spPr>
          <a:xfrm>
            <a:off x="2571840" y="5214960"/>
            <a:ext cx="1017360" cy="1357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Documents and Settings\Пользователь\Рабочий стол\ТИО 5.12.12\1323442463_animaciya-snezhinka.gif"/>
          <p:cNvPicPr/>
          <p:nvPr/>
        </p:nvPicPr>
        <p:blipFill>
          <a:blip r:embed="rId10"/>
          <a:stretch/>
        </p:blipFill>
        <p:spPr>
          <a:xfrm>
            <a:off x="6072120" y="857160"/>
            <a:ext cx="1017720" cy="1357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Documents and Settings\Пользователь\Рабочий стол\ТИО 5.12.12\1323442463_animaciya-snezhinka.gif"/>
          <p:cNvPicPr/>
          <p:nvPr/>
        </p:nvPicPr>
        <p:blipFill>
          <a:blip r:embed="rId11"/>
          <a:stretch/>
        </p:blipFill>
        <p:spPr>
          <a:xfrm>
            <a:off x="6000840" y="5286240"/>
            <a:ext cx="1017360" cy="1357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Documents and Settings\Пользователь\Рабочий стол\ТИО 5.12.12\1323442463_animaciya-snezhinka.gif"/>
          <p:cNvPicPr/>
          <p:nvPr/>
        </p:nvPicPr>
        <p:blipFill>
          <a:blip r:embed="rId12"/>
          <a:stretch/>
        </p:blipFill>
        <p:spPr>
          <a:xfrm>
            <a:off x="2571840" y="785880"/>
            <a:ext cx="10173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Пользователь\Рабочий стол\ТИО 5.12.12\b11b498d644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Пользователь\Рабочий стол\ТИО 5.12.12\фон.jpeg"/>
          <p:cNvPicPr/>
          <p:nvPr/>
        </p:nvPicPr>
        <p:blipFill>
          <a:blip r:embed="rId1"/>
          <a:stretch/>
        </p:blipFill>
        <p:spPr>
          <a:xfrm>
            <a:off x="-285840" y="0"/>
            <a:ext cx="975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b0f0"/>
                </a:solidFill>
                <a:latin typeface="Calibri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Пользователь\Рабочий стол\ТИО 5.12.12\снегурочка.gif"/>
          <p:cNvPicPr/>
          <p:nvPr/>
        </p:nvPicPr>
        <p:blipFill>
          <a:blip r:embed="rId1"/>
          <a:stretch/>
        </p:blipFill>
        <p:spPr>
          <a:xfrm>
            <a:off x="6286680" y="2357280"/>
            <a:ext cx="1618920" cy="3143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Documents and Settings\Пользователь\Рабочий стол\ТИО 5.12.12\дед мороз.gif"/>
          <p:cNvPicPr/>
          <p:nvPr/>
        </p:nvPicPr>
        <p:blipFill>
          <a:blip r:embed="rId2"/>
          <a:stretch/>
        </p:blipFill>
        <p:spPr>
          <a:xfrm>
            <a:off x="428760" y="1857240"/>
            <a:ext cx="3411360" cy="3899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Documents and Settings\Пользователь\Рабочий стол\ТИО 5.12.12\501648566.gif"/>
          <p:cNvPicPr/>
          <p:nvPr/>
        </p:nvPicPr>
        <p:blipFill>
          <a:blip r:embed="rId3"/>
          <a:stretch/>
        </p:blipFill>
        <p:spPr>
          <a:xfrm>
            <a:off x="5429160" y="185724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Documents and Settings\Пользователь\Рабочий стол\ТИО 5.12.12\501648566.gif"/>
          <p:cNvPicPr/>
          <p:nvPr/>
        </p:nvPicPr>
        <p:blipFill>
          <a:blip r:embed="rId4"/>
          <a:stretch/>
        </p:blipFill>
        <p:spPr>
          <a:xfrm>
            <a:off x="285840" y="535788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Documents and Settings\Пользователь\Рабочий стол\ТИО 5.12.12\501648566.gif"/>
          <p:cNvPicPr/>
          <p:nvPr/>
        </p:nvPicPr>
        <p:blipFill>
          <a:blip r:embed="rId5"/>
          <a:stretch/>
        </p:blipFill>
        <p:spPr>
          <a:xfrm>
            <a:off x="214200" y="21420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Documents and Settings\Пользователь\Рабочий стол\ТИО 5.12.12\501648566.gif"/>
          <p:cNvPicPr/>
          <p:nvPr/>
        </p:nvPicPr>
        <p:blipFill>
          <a:blip r:embed="rId6"/>
          <a:stretch/>
        </p:blipFill>
        <p:spPr>
          <a:xfrm>
            <a:off x="7929720" y="28584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Documents and Settings\Пользователь\Рабочий стол\ТИО 5.12.12\501648566.gif"/>
          <p:cNvPicPr/>
          <p:nvPr/>
        </p:nvPicPr>
        <p:blipFill>
          <a:blip r:embed="rId7"/>
          <a:stretch/>
        </p:blipFill>
        <p:spPr>
          <a:xfrm>
            <a:off x="2928960" y="121428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Documents and Settings\Пользователь\Рабочий стол\ТИО 5.12.12\501648566.gif"/>
          <p:cNvPicPr/>
          <p:nvPr/>
        </p:nvPicPr>
        <p:blipFill>
          <a:blip r:embed="rId8"/>
          <a:stretch/>
        </p:blipFill>
        <p:spPr>
          <a:xfrm>
            <a:off x="4000680" y="428616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Documents and Settings\Пользователь\Рабочий стол\ТИО 5.12.12\501648566.gif"/>
          <p:cNvPicPr/>
          <p:nvPr/>
        </p:nvPicPr>
        <p:blipFill>
          <a:blip r:embed="rId9"/>
          <a:stretch/>
        </p:blipFill>
        <p:spPr>
          <a:xfrm>
            <a:off x="6572160" y="557208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Documents and Settings\Пользователь\Рабочий стол\ТИО 5.12.12\501648566.gif"/>
          <p:cNvPicPr/>
          <p:nvPr/>
        </p:nvPicPr>
        <p:blipFill>
          <a:blip r:embed="rId10"/>
          <a:stretch/>
        </p:blipFill>
        <p:spPr>
          <a:xfrm>
            <a:off x="4572000" y="292896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Documents and Settings\Пользователь\Рабочий стол\ТИО 5.12.12\501648566.gif"/>
          <p:cNvPicPr/>
          <p:nvPr/>
        </p:nvPicPr>
        <p:blipFill>
          <a:blip r:embed="rId11"/>
          <a:stretch/>
        </p:blipFill>
        <p:spPr>
          <a:xfrm>
            <a:off x="6572160" y="121428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Documents and Settings\Пользователь\Рабочий стол\ТИО 5.12.12\501648566.gif"/>
          <p:cNvPicPr/>
          <p:nvPr/>
        </p:nvPicPr>
        <p:blipFill>
          <a:blip r:embed="rId12"/>
          <a:stretch/>
        </p:blipFill>
        <p:spPr>
          <a:xfrm>
            <a:off x="5072040" y="542916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:\Documents and Settings\Пользователь\Рабочий стол\ТИО 5.12.12\501648566.gif"/>
          <p:cNvPicPr/>
          <p:nvPr/>
        </p:nvPicPr>
        <p:blipFill>
          <a:blip r:embed="rId13"/>
          <a:stretch/>
        </p:blipFill>
        <p:spPr>
          <a:xfrm>
            <a:off x="2786040" y="581040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Documents and Settings\Пользователь\Рабочий стол\ТИО 5.12.12\501648566.gif"/>
          <p:cNvPicPr/>
          <p:nvPr/>
        </p:nvPicPr>
        <p:blipFill>
          <a:blip r:embed="rId14"/>
          <a:stretch/>
        </p:blipFill>
        <p:spPr>
          <a:xfrm>
            <a:off x="7858080" y="5000760"/>
            <a:ext cx="1047960" cy="1047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Documents and Settings\Пользователь\Рабочий стол\ТИО 5.12.12\501648566.gif"/>
          <p:cNvPicPr/>
          <p:nvPr/>
        </p:nvPicPr>
        <p:blipFill>
          <a:blip r:embed="rId15"/>
          <a:stretch/>
        </p:blipFill>
        <p:spPr>
          <a:xfrm>
            <a:off x="357120" y="2214720"/>
            <a:ext cx="1047960" cy="104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Documents and Settings\Пользователь\Рабочий стол\ТИО 5.12.12\501648566.gif"/>
          <p:cNvPicPr/>
          <p:nvPr/>
        </p:nvPicPr>
        <p:blipFill>
          <a:blip r:embed="rId16"/>
          <a:stretch/>
        </p:blipFill>
        <p:spPr>
          <a:xfrm>
            <a:off x="7643880" y="271476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06:22:08Z</dcterms:created>
  <dc:creator>Пользователь</dc:creator>
  <dc:description/>
  <dc:language>en-US</dc:language>
  <cp:lastModifiedBy>Пользователь</cp:lastModifiedBy>
  <dcterms:modified xsi:type="dcterms:W3CDTF">2012-12-05T06:38:19Z</dcterms:modified>
  <cp:revision>5</cp:revision>
  <dc:subject/>
  <dc:title>Контрольная работа по теме: «Действия с информацией» </dc:title>
</cp:coreProperties>
</file>